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F04-47A6-4C9E-A0D5-0FE9DD96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2BF-D71F-45E2-830E-B93C7715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B06-7476-4E1B-AFAD-8AE0CB32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816-7AA2-44A6-9BA0-0D1E96DF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A28-CEFD-49A5-AF35-CA1EA3B4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FE6-5E6C-40C2-ABAD-9ABE8C77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4FE-1ED7-4D07-8F28-2459662E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503-AFE2-4FD1-BD57-8BA78921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6D9-1B48-4A3A-8EA7-982BE3D3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E65-CE54-4A16-B688-827F1621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195-4462-4C80-97E9-E8C76A3A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414-4B61-4330-88E3-5BF57CEC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DACC-E306-4584-8D4B-6518E0810C8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83 Zem, počuj slávnu zv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tejto zvesti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všetkých končín zni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on m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vojich rukách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Kráľom sveta 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em, počuj slávnu zvesť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je tvoj Kráľ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z končín sve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ajov, mies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u znejú piesne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duše mojej vzl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u vrúcnu vďaku vzd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chráni dosiaľ celý sv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, Láska presvä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em, počuj spásy zvesť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Pán Ježiš je tvoj Kráľ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jemu patrí sláva,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a nás život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prachu zemských cies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z lásky poníž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z bahna hriechu tento sv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lávy povýš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em, počuj mieru zvesť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Pán Ježiš je tvoj Kráľ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pokoj sveta, ťarchu bie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eba z lásky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 mieru Božie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každý môže m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iesňou srdca vďačné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u vrúcnu chválu vz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em, počuj večnú zvesť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Pán Ježiš je tvoj Kráľ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neho nikde spásy ni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lávne z mŕtvych vs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06T19:04:19Z</dcterms:modified>
  <cp:revision>12</cp:revision>
  <dc:subject/>
  <dc:title>Je veľký náš Pán, on slávy je Kráľ Nech do všetkých strán  spev vrúcnych znie chvál.</dc:title>
</cp:coreProperties>
</file>